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5256-5F9C-4861-B818-068E817D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A587-3010-4861-8E76-FC10797E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44446-1874-4CAA-985C-57D28ACA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33A40-FBF4-4040-9BC1-0C5E0272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8964E-061D-418B-A547-F6F614AA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BD8F0-BAF5-4146-B4D6-A715B739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99C06-458C-4B2B-9A5D-A516EB09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86E62-5012-4EF5-85D9-DCABE268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41866-6112-4513-B33E-9257F26E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34B8B-99CB-49FF-A303-6DA0BB5F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4BDAC-CC62-4A45-81EA-1C751E39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B97F2-C977-4866-86F6-1F1134F24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D653-65DF-451E-AF8B-2FBAD524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54FEB-402D-40BD-A09D-EB44CFBC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636BA-DAFD-4D30-85B1-40229396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AEA28-7779-4C2E-A42B-83D7A090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0E478-9886-4043-9578-A7BE14A6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1AA0B-D59D-4EB7-92A4-2436AC3D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21583-71C6-4C4C-8D1B-41592131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8EB06-7D72-40DF-9445-B1F22AD3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E0DF3-F496-49F4-932B-39926E1E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82D78-24FD-4340-8912-DB5F2801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89089-EE5C-4B9F-BF81-9974253E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9940-97DD-4198-9F25-D49A6335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DFCD4-5650-406E-9CE0-84A632D0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BF184-D8DD-48EC-9661-F43D364E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D616E-EB1C-48FF-83A1-691C82B5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0CB5B-5C3F-497F-B747-D6DF83B7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E0DB1-50E5-493A-B087-4A00AA9A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157FC-3725-4618-B7F2-2D6F732B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C0554-46B3-4E30-9C2B-6521ADA6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478FE-737B-4338-967A-5F6984F3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A3B76-7F6F-4B72-AD8F-97377960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57456-29B9-4DCF-88E5-004F01DD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15A4-F389-477D-9D42-B9F57123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A8B05-8978-4AF8-8396-F77D35D9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5E986-596A-491A-8A65-1681314B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70C6E-0602-420D-A23E-F79D22E5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599DE-CAA1-438E-82AD-A6ECA1AA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55859-7303-407D-8CED-1E2B9ACE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19AB0-3FB4-4E2D-8264-6A7EFC51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B5F4F-E8BA-4FD5-969C-214DC734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AF955E-6B62-4094-AFFF-B29407D8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0403C-E5BB-44B9-81F1-493EF9A4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1E0DA-FF98-4F59-B94F-B12D8314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63CF-2729-4A16-9F9F-1245305A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E9D26-CC6C-4CE2-8B6D-FF612B76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31208-095F-45D2-9658-6AB1DE5C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C38E0-7AB1-4746-B30A-04361A22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84AF5-807C-4D96-B70D-D28C0B4D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0584E-3C82-4873-A391-67B12E6F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E53651-412B-4477-82BB-88416731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E765CA-58A5-4713-9B74-B3D9BF2F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D67F4-3698-46A6-A3BB-7CA4721D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F8D4DC-F4A9-4CBB-B3D0-4DBA20BA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E283A4-B7F8-43B7-B3EB-2E7EDD4A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A0C1-8BBE-463D-9189-8E3DFD33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6DA626-CC72-4920-851C-93F56394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9D9761-43B5-4FFE-9231-54464248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C2F2E8-049B-435D-87F9-DB81CF1B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D0C032-5EAC-49C8-9E79-FD495883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A8D935-B5F6-45CA-AC32-D8D71B6C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BF69F3-ECB7-4108-9946-22505142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86E2A2-EAB9-4EB9-9E57-3CF687D9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255CBC-29F9-4AD7-BC3E-DA2CD7E5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624158-CEF3-4684-876D-EECB9AB0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051994-4184-4480-B3CD-461DBD5E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D8E8-BB1E-4F57-B8EB-4B35B274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225649-7FBA-4E11-A9B3-19B07511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C6AAC9-34F8-4459-BC56-23C05509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4FDAF5-4FA3-4868-80D9-4AE5C92F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5711F5-B33C-4440-B471-4937C0D7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812117-945D-440C-BEB4-0917392B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14D076-8C72-4A45-AF77-B41371CA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C46D1D-8C73-40B3-8B72-D66429B8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65C3A3-BC79-4186-BB68-17EE7EE3B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8A77BA-1CA6-4211-8A9C-3F3330F7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46098D-7676-4C59-ABB6-DFE5C609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2254-CB0A-4258-827D-C74474C5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A3450B-50C3-4A46-9824-5AC15C30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F09417-EBDF-4A73-A68A-8D20D85C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B81DD9-89A5-48B0-AEEC-76897C59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1CF4F2-213B-4EE8-97C6-2AF630E5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4B8524-C54B-4190-9637-40D9058E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8DC9DA-28BD-433E-943C-CC8C6BDD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796991-BE27-4FB4-A84B-D7A4E5FD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164F35-2978-4160-B069-E9524D3C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FAC2BA-E895-47AD-A91E-FF36F8EE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18BBA1-B220-49DD-9E7C-4E1F77E9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6E89-93C0-4B2B-B5E6-9EB5F5DD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B9D0D7-437B-4CF2-A298-9D769852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9ACC51-AAFF-44F7-9613-75247EA6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2AF9A8-2341-4F42-9E5D-C50CA62A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5AC03B-AC3D-482E-8D3C-D8202FD2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175DFD-B0CA-4585-B418-8A07649B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7A3E70-FE28-4A0D-B013-8833E76F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70E79B-E0A0-45FF-A69B-1B69D0AF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FA57BD-5DDD-4802-B6BC-BF6EE778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22CB4E-5329-4DAF-8621-710157E5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AE7789-E8FD-4D9B-9AF8-37682585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9E3E-065B-4433-8510-A451A7C0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6590E6-0F15-4AE2-8BD4-35C69B84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A88256-362A-4469-BF58-D40EF989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7C2659-9DF8-40D4-88F8-B5453380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5F71F7-0EAD-46C1-92B8-1E90A138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498177-0B6C-49F0-AAEE-3756A662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A61BC5-0357-432D-AB3C-B2B6FACB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F821E0-BF07-4CB6-B3B2-81194DE6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25ADE3-B613-48CA-84D5-B5DD45BA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49E147-4F5C-4AD3-A833-1B0CF4E5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26667E-CF61-4A3B-96EE-9ADF61FB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3E00-8F40-4D72-842F-17C6164E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A21B-F1F9-4815-BA32-3610B65F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E4AB22-E731-4885-829E-690DC162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CA455E-64B6-4834-A963-EB136A39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F573EE-1EA0-4534-A9B2-72105C95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13E043-EE50-4D16-8C1B-20E8E1AC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A32942-D3F2-4980-B62D-EA19622E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5561B2-6900-4D76-8F76-BBE0AF3F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A891A0-A585-4E53-A1B7-8D7B7B4E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322EC6-CD7C-4F7D-9A1B-7E9BFBE4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C3F352-3EE1-44E9-8613-6522F970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9E21D8-D3EB-4F92-BAD4-44C5D9E5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B4AC-FB12-482D-AB63-870C2199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CB6068-B0D6-4D42-99DE-81E9A14B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477479-4187-461A-9013-08D4782B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9ABAB7-42D2-4081-B5F7-B563F602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3FD10D-1934-48AA-8C4B-01B5FA35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6387EB-3E2B-4A16-BA1D-1908FF3E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DE082C-6B40-49DF-A00C-09E1EB64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729D5A-2307-439E-A8D1-D259F33D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6923C0-F789-4952-8904-FC50E340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0FB50D-DEDD-49DE-AA78-B4774B93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8E319C-C47C-4F89-8C6C-A7F326BE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9390-2EA1-48B2-A2FA-DDE85DFC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A90910-208F-439C-9A6C-6B792101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0E09D0-C831-4B03-AD25-7195F9AF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7CD2A8-6747-49DA-9555-BF0E6105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156F54-0A4C-4466-8225-3FDD6064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AA2661-9E78-492A-8117-E065DB9F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A6F1DA-3CDF-4947-8AB2-867774EA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3214EE-4413-41EB-9F79-C43BA5CC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757DFF-0297-42E8-A7F1-AE0FBA47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BEDAE5-10F1-4314-A713-4BBCFA63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66DDEF-534A-4273-B2F5-E735CFEC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7598-8BCB-4949-9BA7-137FEDBC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61E0ED-FA3A-4696-91FD-CDD0DB08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96F70F-C619-4B76-A67C-F74D86D0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3A6713-44E1-4FEF-B1CA-9755DBE2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6D91CF-4D6E-4CBC-9A99-730D84F9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6A7C8D-0880-4C5D-8097-B43B426C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E9F29F-2553-431A-8A69-D7DBDC50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FA0B78-F521-497B-9ADD-E940B3FA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C20B60-D795-491F-8402-C36916BA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94E1A0-1DF8-4F68-8817-B2A7638C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5160D7-33C8-4D22-A18C-190B0436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823B-D4E5-491D-9DC7-C952A1B0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30BC85-527F-4CAE-B878-F54C4DC1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B9F80B-6A60-411B-B454-DEC9B679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BF7562-9566-4906-AB35-5DDB43D8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B332FA-6293-4147-BAB2-835414FA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C33894-9228-4C0B-9FE2-E0599A49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7D1128-EDE3-4FBD-871F-836DA3CC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06D1FE-E34E-4C91-9E8D-2AB2CF4E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F0DDDE-3D6D-4CF8-A646-D5B0168F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C7AC3D-0F77-4B0F-B182-8DE9C982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6BD189-D736-4C0D-BB63-F03BF4A7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321E8-2221-4A64-A5BA-B10BC18E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65381F-59DE-4B4C-8365-40A69A03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0DB5C4-9096-49D3-B4A3-E51A50EE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D6FB7A-1D34-48F4-B2FC-10488CFA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6DB01-356C-44B3-81D6-9B99EC40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C0C9D-258B-41FC-BFF6-BA14A656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9D301-9018-405C-BD88-E2A97FF4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93006-4AA4-4917-A9B7-E852204E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BBD-5A15-4BC5-8A0D-C63BA6D5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102C9-0ABB-41E9-8003-E828788F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25C27-9CFE-4E31-AAE8-FE166BAF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4FD39-4ADE-45EE-9935-6ABFDD2B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C1F11-A356-4057-BAA2-29C125AB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2AB63-E921-4F00-A5D3-5E4FF539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E9E37-015B-4435-BFD0-73579FA1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4D740-3B64-49A4-8F87-6EC6F532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383D3-8F9A-48CC-BD85-BFD8CC59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2102A-772E-42CA-8678-44F3B39F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B0AD4-8CD8-4DE9-B22A-92C56D3B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C62E-75DF-44A1-92E8-F8E307D7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87E21-1E22-4CFD-80D2-75743178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B7FE6-ACE9-410C-A851-D1613D83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FBFD0-4EB5-418A-BC49-433709C9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3CDA6-140E-4E7C-8AC4-04FAEB75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AFB1D-7629-4F99-9689-DA6B7FA9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8FC65-C519-4FF8-A2E6-231919A8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CD2EF-A361-467F-B0DA-7F09159B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2EB56-16EF-4D03-9E6D-57AACD05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C746C-6F25-4EAA-81C6-56C56AF9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6A687-0A49-4055-90CB-7A45BB48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253D-8D6F-4D77-934F-9DCC6B01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378D0-37BA-4DC3-8346-82FB001B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575EB-EE47-4750-A327-B591810D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CC184-5AE1-4EBD-A687-03979AD2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0616C-A3BC-4A18-A559-1EB35E73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8C351-F329-4A40-BCBC-1BCA7EF3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99443-0C0D-4D67-ACB0-A95DA4E6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932E6-867C-4B69-BA3D-4B29E8FF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3551C-C1B7-4664-88E6-F37D6084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90A5F-1CE3-4425-826A-D227372B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548BC-9BAA-436B-9CC1-E01BCA3A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5CFA-BE2D-4416-A971-C5A4A32F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54CDC-EE4B-4249-B809-8DB69120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21EFB-713F-437B-ACC3-6E470C82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CDE92-6CD3-4FF1-8D98-ECA1AB2E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A3233-6520-4D0D-A59E-24765483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5F9FD-403F-4078-B7F2-95B7B2FA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8C201-D954-4988-BFF2-0A181846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67C5B-2F44-4BEC-8522-B8C00B96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DA92E-DA5C-486A-9C64-ACA83852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11536-6004-4E0D-89DB-314D5584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5E85C-3C7A-4F91-A5A0-8D1C6F5E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6D03-8788-4ABB-88B7-1EE3C0C9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AB6D8-F7E3-4A5B-82FE-43661FF8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0E1D8-865A-4CBE-B08A-07426524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2FC0A-6A84-4D61-BFFB-57C3D21A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E05F2-C344-4220-A2A5-B6A9A0FB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1CE0B-1975-40D5-BB17-12692A2A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B214C-1B17-4049-B691-C70EC09D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8BD93-D937-4C60-AB69-D119A925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EDF88-D100-40A2-AA14-4EBFA147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E8F3A-E650-4A11-AAC4-9C9C41EB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A7B48-65D8-49B7-9834-BF9095F6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28E7-8FB5-4E2D-A247-644936A3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1EDFE-AB10-4041-99E2-F82623AF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1E477-4255-4750-B438-02016B32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B9394-E366-4C5E-AB39-956D26F3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2C037-6F53-450C-9189-293FFCD0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3AEEF-AEE6-48E7-846A-79D16CBFD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0F81E-694E-4684-8826-62183674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88E87-F238-44A2-B1CE-F1BEEB70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D46BD-D68C-432D-B0CF-831DA06D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1996F-92D3-469A-818A-3F254B59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79CBF-F3F9-477C-AB04-2B3C4AC9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18BA-E3B5-4758-BA71-463D4F1C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5122A-E9F5-44B9-9E5D-0E5B735A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40E11-BA88-4508-9290-E654EC18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EAC3B-114F-48C2-BFD3-FCF1CB0C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A64D6-C57D-490F-B63B-FD71E3AD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41DB5-035A-42E9-99B1-B4B89886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AAC64-1249-434F-9027-02098248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D0275-1DCF-4309-97C0-4FDD50B7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EC119-A1B8-4244-98AA-E416146F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17C50-E0D6-4931-8760-C0809AAE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31DE1-2A11-4D5B-B794-5B4CAC22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8DEF-C743-422F-82E0-8B9771576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410C-996C-4CA1-9388-98B27D0CA1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4694-6D6F-46A4-ACD0-487DF741B4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05DA-1899-437A-8A65-C8FDEF1825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95C4-62A4-4D86-B097-88024296F0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CD21-9245-467B-B12C-6FFD18FFDF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A46A-BBFC-4464-AE09-96E35E48BC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57A6-D48D-4BCA-AB47-9BC90C2AF1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F02F-C065-41A9-9CD7-339BED8B29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25CE-580D-4B93-AF1B-E55A96BF94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FF37-ED94-48BB-B927-B661DC0EDE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355F-7824-49F4-9D14-A84EF08273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D236-29C8-4C98-934E-F39CF249B9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6755-6A21-4911-B0D5-7702B84337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D70F-AA2D-405F-860E-90243F57AB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9D14-4B0C-45CB-BF94-2E683FB258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74DA-4514-444F-9A4F-93C5033F9C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C3D5-CDC7-4171-BDD8-E89E86F5B4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F9E2-BE7E-4512-91C7-37A1A80E91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D207-0354-4A11-AD1D-4848328C1E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929C-00F0-41CB-A230-9D0D556249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4FEF-DE51-4152-8A28-2C0D27E347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7979-AA13-4911-9EF9-7E9CEC10DC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3E0F-8990-454F-B4F9-F0E0DDD1A5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6719-605A-48BE-9BCC-B54BD102FB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C83D-C6E3-41C8-8230-4E1ACF16E5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278A-514C-4DB6-8D23-11AAE05832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F5A3-6C5D-4BF4-9EC6-BEB418E79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C66D-53DD-4694-929C-86DAF9285F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5B79-6832-4A81-B61F-19ECD77760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C3D3-2BA2-49C8-849C-B70203FD90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89F6-10C4-4F40-9F3D-A1AE6BA386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44C2-A6BA-4025-A7B7-78A0A5ADCD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4666-486B-4268-B81A-CB94F07947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BB59-B6A7-4D4D-94B6-85F4D8C6DE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477E-FD31-460B-8B12-DDCB08A938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D22D-1904-4298-AFCF-A76F4AD91C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45ED-2DD3-4258-A860-C51140794E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559A-47D9-4599-8F5F-19FA35484C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9AE1-8DDE-44C7-8F17-5259E481CF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900520" y="3043080"/>
            <a:ext cx="334296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Picture 1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8124480" cy="4581360"/>
          </a:xfrm>
          <a:prstGeom prst="rect">
            <a:avLst/>
          </a:prstGeom>
          <a:ln w="0">
            <a:noFill/>
          </a:ln>
        </p:spPr>
      </p:pic>
      <p:sp>
        <p:nvSpPr>
          <p:cNvPr id="1064" name="矩形 2"/>
          <p:cNvSpPr/>
          <p:nvPr/>
        </p:nvSpPr>
        <p:spPr>
          <a:xfrm>
            <a:off x="1143000" y="1571760"/>
            <a:ext cx="7572240" cy="3823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3"/>
          <p:cNvSpPr/>
          <p:nvPr/>
        </p:nvSpPr>
        <p:spPr>
          <a:xfrm>
            <a:off x="700200" y="2014560"/>
            <a:ext cx="801504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4"/>
          <p:cNvSpPr/>
          <p:nvPr/>
        </p:nvSpPr>
        <p:spPr>
          <a:xfrm>
            <a:off x="614520" y="2408400"/>
            <a:ext cx="8015040" cy="323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5"/>
          <p:cNvSpPr/>
          <p:nvPr/>
        </p:nvSpPr>
        <p:spPr>
          <a:xfrm>
            <a:off x="571680" y="2832120"/>
            <a:ext cx="8150040" cy="312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6"/>
          <p:cNvSpPr/>
          <p:nvPr/>
        </p:nvSpPr>
        <p:spPr>
          <a:xfrm>
            <a:off x="500040" y="3214800"/>
            <a:ext cx="8143920" cy="328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7"/>
          <p:cNvSpPr/>
          <p:nvPr/>
        </p:nvSpPr>
        <p:spPr>
          <a:xfrm>
            <a:off x="488880" y="3614760"/>
            <a:ext cx="828360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矩形 8"/>
          <p:cNvSpPr/>
          <p:nvPr/>
        </p:nvSpPr>
        <p:spPr>
          <a:xfrm>
            <a:off x="617400" y="4035600"/>
            <a:ext cx="8143920" cy="3283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9"/>
          <p:cNvSpPr/>
          <p:nvPr/>
        </p:nvSpPr>
        <p:spPr>
          <a:xfrm>
            <a:off x="500040" y="4429080"/>
            <a:ext cx="8143920" cy="328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10"/>
          <p:cNvSpPr/>
          <p:nvPr/>
        </p:nvSpPr>
        <p:spPr>
          <a:xfrm>
            <a:off x="500040" y="4821120"/>
            <a:ext cx="8143920" cy="328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矩形 11"/>
          <p:cNvSpPr/>
          <p:nvPr/>
        </p:nvSpPr>
        <p:spPr>
          <a:xfrm>
            <a:off x="571680" y="5251320"/>
            <a:ext cx="3429000" cy="303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538200" y="1157400"/>
            <a:ext cx="8067600" cy="4543200"/>
          </a:xfrm>
          <a:prstGeom prst="rect">
            <a:avLst/>
          </a:prstGeom>
          <a:ln w="9360">
            <a:solidFill>
              <a:srgbClr val="7481a8"/>
            </a:solidFill>
            <a:miter/>
          </a:ln>
        </p:spPr>
      </p:pic>
      <p:sp>
        <p:nvSpPr>
          <p:cNvPr id="1024" name="矩形 2"/>
          <p:cNvSpPr/>
          <p:nvPr/>
        </p:nvSpPr>
        <p:spPr>
          <a:xfrm>
            <a:off x="5214960" y="2928960"/>
            <a:ext cx="92880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6715080" y="2857680"/>
            <a:ext cx="928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1071720" y="3286080"/>
            <a:ext cx="9284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5"/>
          <p:cNvSpPr/>
          <p:nvPr/>
        </p:nvSpPr>
        <p:spPr>
          <a:xfrm>
            <a:off x="2508120" y="3308400"/>
            <a:ext cx="6429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6"/>
          <p:cNvSpPr/>
          <p:nvPr/>
        </p:nvSpPr>
        <p:spPr>
          <a:xfrm>
            <a:off x="4286160" y="4500720"/>
            <a:ext cx="7858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7"/>
          <p:cNvSpPr/>
          <p:nvPr/>
        </p:nvSpPr>
        <p:spPr>
          <a:xfrm>
            <a:off x="5572080" y="4500720"/>
            <a:ext cx="7858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8"/>
          <p:cNvSpPr/>
          <p:nvPr/>
        </p:nvSpPr>
        <p:spPr>
          <a:xfrm>
            <a:off x="4975200" y="4950000"/>
            <a:ext cx="714240" cy="304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9"/>
          <p:cNvSpPr/>
          <p:nvPr/>
        </p:nvSpPr>
        <p:spPr>
          <a:xfrm>
            <a:off x="6286680" y="4965840"/>
            <a:ext cx="785520" cy="314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10"/>
          <p:cNvSpPr/>
          <p:nvPr/>
        </p:nvSpPr>
        <p:spPr>
          <a:xfrm>
            <a:off x="7629480" y="4906800"/>
            <a:ext cx="6573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1" descr=""/>
          <p:cNvPicPr/>
          <p:nvPr/>
        </p:nvPicPr>
        <p:blipFill>
          <a:blip r:embed="rId1"/>
          <a:stretch/>
        </p:blipFill>
        <p:spPr>
          <a:xfrm>
            <a:off x="571680" y="1214280"/>
            <a:ext cx="8067600" cy="4438800"/>
          </a:xfrm>
          <a:prstGeom prst="rect">
            <a:avLst/>
          </a:prstGeom>
          <a:ln w="0">
            <a:noFill/>
          </a:ln>
        </p:spPr>
      </p:pic>
      <p:sp>
        <p:nvSpPr>
          <p:cNvPr id="1034" name="矩形 2"/>
          <p:cNvSpPr/>
          <p:nvPr/>
        </p:nvSpPr>
        <p:spPr>
          <a:xfrm>
            <a:off x="1500120" y="1571760"/>
            <a:ext cx="928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3"/>
          <p:cNvSpPr/>
          <p:nvPr/>
        </p:nvSpPr>
        <p:spPr>
          <a:xfrm>
            <a:off x="3929040" y="1571760"/>
            <a:ext cx="13572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4"/>
          <p:cNvSpPr/>
          <p:nvPr/>
        </p:nvSpPr>
        <p:spPr>
          <a:xfrm>
            <a:off x="5797440" y="1593720"/>
            <a:ext cx="9288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5"/>
          <p:cNvSpPr/>
          <p:nvPr/>
        </p:nvSpPr>
        <p:spPr>
          <a:xfrm>
            <a:off x="1832040" y="2039760"/>
            <a:ext cx="13111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6"/>
          <p:cNvSpPr/>
          <p:nvPr/>
        </p:nvSpPr>
        <p:spPr>
          <a:xfrm>
            <a:off x="3357720" y="2786040"/>
            <a:ext cx="5713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7"/>
          <p:cNvSpPr/>
          <p:nvPr/>
        </p:nvSpPr>
        <p:spPr>
          <a:xfrm>
            <a:off x="4406760" y="2828880"/>
            <a:ext cx="7146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8"/>
          <p:cNvSpPr/>
          <p:nvPr/>
        </p:nvSpPr>
        <p:spPr>
          <a:xfrm>
            <a:off x="6072120" y="2786040"/>
            <a:ext cx="10717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9"/>
          <p:cNvSpPr/>
          <p:nvPr/>
        </p:nvSpPr>
        <p:spPr>
          <a:xfrm>
            <a:off x="1285920" y="4000680"/>
            <a:ext cx="7358040" cy="388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10"/>
          <p:cNvSpPr/>
          <p:nvPr/>
        </p:nvSpPr>
        <p:spPr>
          <a:xfrm>
            <a:off x="1046160" y="4492800"/>
            <a:ext cx="1719360" cy="296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11"/>
          <p:cNvSpPr/>
          <p:nvPr/>
        </p:nvSpPr>
        <p:spPr>
          <a:xfrm>
            <a:off x="1285920" y="5214960"/>
            <a:ext cx="7215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1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826740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466560" y="1538280"/>
            <a:ext cx="8210880" cy="3781440"/>
          </a:xfrm>
          <a:prstGeom prst="rect">
            <a:avLst/>
          </a:prstGeom>
          <a:ln w="0">
            <a:noFill/>
          </a:ln>
        </p:spPr>
      </p:pic>
      <p:sp>
        <p:nvSpPr>
          <p:cNvPr id="1046" name="矩形 2"/>
          <p:cNvSpPr/>
          <p:nvPr/>
        </p:nvSpPr>
        <p:spPr>
          <a:xfrm>
            <a:off x="3094200" y="4311720"/>
            <a:ext cx="2917800" cy="396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3"/>
          <p:cNvSpPr/>
          <p:nvPr/>
        </p:nvSpPr>
        <p:spPr>
          <a:xfrm>
            <a:off x="2571840" y="4778280"/>
            <a:ext cx="18572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172360" cy="5905800"/>
          </a:xfrm>
          <a:prstGeom prst="rect">
            <a:avLst/>
          </a:prstGeom>
          <a:ln w="0">
            <a:noFill/>
          </a:ln>
        </p:spPr>
      </p:pic>
      <p:sp>
        <p:nvSpPr>
          <p:cNvPr id="1049" name="矩形 2"/>
          <p:cNvSpPr/>
          <p:nvPr/>
        </p:nvSpPr>
        <p:spPr>
          <a:xfrm>
            <a:off x="2392200" y="1500120"/>
            <a:ext cx="121464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3"/>
          <p:cNvSpPr/>
          <p:nvPr/>
        </p:nvSpPr>
        <p:spPr>
          <a:xfrm>
            <a:off x="6000840" y="1500120"/>
            <a:ext cx="2357280" cy="328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4"/>
          <p:cNvSpPr/>
          <p:nvPr/>
        </p:nvSpPr>
        <p:spPr>
          <a:xfrm>
            <a:off x="4071960" y="1928880"/>
            <a:ext cx="121428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5"/>
          <p:cNvSpPr/>
          <p:nvPr/>
        </p:nvSpPr>
        <p:spPr>
          <a:xfrm>
            <a:off x="2857680" y="2714760"/>
            <a:ext cx="1357200" cy="325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6"/>
          <p:cNvSpPr/>
          <p:nvPr/>
        </p:nvSpPr>
        <p:spPr>
          <a:xfrm>
            <a:off x="7094520" y="2749680"/>
            <a:ext cx="1214280" cy="290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7"/>
          <p:cNvSpPr/>
          <p:nvPr/>
        </p:nvSpPr>
        <p:spPr>
          <a:xfrm>
            <a:off x="1214280" y="3500280"/>
            <a:ext cx="135756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8"/>
          <p:cNvSpPr/>
          <p:nvPr/>
        </p:nvSpPr>
        <p:spPr>
          <a:xfrm>
            <a:off x="4714920" y="4286160"/>
            <a:ext cx="164304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9"/>
          <p:cNvSpPr/>
          <p:nvPr/>
        </p:nvSpPr>
        <p:spPr>
          <a:xfrm>
            <a:off x="3000240" y="4714920"/>
            <a:ext cx="264348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10"/>
          <p:cNvSpPr/>
          <p:nvPr/>
        </p:nvSpPr>
        <p:spPr>
          <a:xfrm>
            <a:off x="5294160" y="5122800"/>
            <a:ext cx="920880" cy="309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11"/>
          <p:cNvSpPr/>
          <p:nvPr/>
        </p:nvSpPr>
        <p:spPr>
          <a:xfrm>
            <a:off x="2343240" y="5514840"/>
            <a:ext cx="142884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12"/>
          <p:cNvSpPr/>
          <p:nvPr/>
        </p:nvSpPr>
        <p:spPr>
          <a:xfrm>
            <a:off x="2786040" y="5929200"/>
            <a:ext cx="164304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Picture 1" descr=""/>
          <p:cNvPicPr/>
          <p:nvPr/>
        </p:nvPicPr>
        <p:blipFill>
          <a:blip r:embed="rId1"/>
          <a:stretch/>
        </p:blipFill>
        <p:spPr>
          <a:xfrm>
            <a:off x="471600" y="2081160"/>
            <a:ext cx="82008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Picture 1" descr=""/>
          <p:cNvPicPr/>
          <p:nvPr/>
        </p:nvPicPr>
        <p:blipFill>
          <a:blip r:embed="rId1"/>
          <a:stretch/>
        </p:blipFill>
        <p:spPr>
          <a:xfrm>
            <a:off x="504720" y="1343160"/>
            <a:ext cx="813456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Picture 1" descr=""/>
          <p:cNvPicPr/>
          <p:nvPr/>
        </p:nvPicPr>
        <p:blipFill>
          <a:blip r:embed="rId1"/>
          <a:stretch/>
        </p:blipFill>
        <p:spPr>
          <a:xfrm>
            <a:off x="538200" y="1143000"/>
            <a:ext cx="8067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8:24:3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